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855-FF0B-4223-9087-A0CD675A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831-9C45-427A-B55D-BE6A5265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72F-D153-4041-B0EA-1EE68FAB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83C-8DF2-4EA6-9082-95E4087A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052-B4DD-41CE-BBF3-C1AA8777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39E7-7DD1-48A5-808A-67F6FDF3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68E-3203-4F5A-9865-86716AE0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564-6EE6-44E6-8C5F-4F552BC0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2572-B354-4080-8147-CA06E66A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3A50-62C0-480A-8D7A-26DA924C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9668-C9BD-4A80-814D-CCCD8E7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146-E60D-4F62-95D1-6FE517F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E889-2ED4-4ADA-B7A8-9079EEC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E87A-74DA-41A0-8B73-FC0144F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530C-8BC1-477D-BD07-ADD88EE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C10C-4830-4881-8D1F-FA3EB46D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AA24-6E92-4199-BF63-8015CDFA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D30-A9BA-4A2D-A658-3EEA1C86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339-DDA9-4DB3-84CA-EFCEDF1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3F4-FC31-4F4C-BE21-111E91F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B82-B30E-44EE-B7AC-0B0AEF0A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174-8846-490C-8A74-FC19670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1CD-D4A9-41E3-A790-95C82D7E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8CC-7D8B-46CC-80E8-862DDA15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ABB6-5CE9-4E55-955D-CAD7CE86DBFD}" type="slidenum">
              <a:rPr b="0" lang="de-DE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C1A9-7BD3-4FF0-9CE7-66DA555A2826}" type="slidenum"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Entwicklung unserer Firm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Appelmann Naturko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C:\Programme\Gemeinsame Dateien\Microsoft Shared\Clipart\cagcat50\BD08911_.WMF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Unsere Ziele für 200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Steigerung des Gewin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Senkung der Produktionskos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Sicherung der Marktpos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Erweiterung der Produktpalet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imes New Roman"/>
              </a:rPr>
              <a:t>Anbau einer Lagerhal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Absatzsteigeru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5249"/>
                </a:solidFill>
                <a:latin typeface="Times New Roman"/>
              </a:rPr>
              <a:t>Positive Fakto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Steigende Nachfrag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Rationalisierung der Produk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Günstigere Bezugsquellen für KBA-Produk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5249"/>
                </a:solidFill>
                <a:latin typeface="Times New Roman"/>
              </a:rPr>
              <a:t>Negative Faktor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Zunehmende Konkurrenz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Mehrausgaben für Werbu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Kosten für den Anba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Raumplanung für den Anba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2101680"/>
          <a:ext cx="7696440" cy="411480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23623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bteilung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Geplante Belegung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ezugstermi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inkauf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 Räu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nfang Jun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roduktion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 Räu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itte Apri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Versan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 Räu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nfang Juni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Umsatz im 1. Quart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066680" y="21016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016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Aktueller Personalstan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1076400" y="2787480"/>
          <a:ext cx="77533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787480"/>
                    <a:ext cx="7753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Geplanter Personalstan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78160" y="2787480"/>
          <a:ext cx="51498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8160" y="2787480"/>
                    <a:ext cx="5149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a3d7a"/>
                </a:solidFill>
                <a:latin typeface="Times New Roman"/>
              </a:rPr>
              <a:t>Maßnahmenbündel 200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971800" y="3048120"/>
            <a:ext cx="3200400" cy="16761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b5249"/>
                </a:solidFill>
                <a:latin typeface="Times New Roman"/>
              </a:rPr>
              <a:t>Ziel: Sicherung des Marktantei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15360" y="24685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66360" y="36162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656720" y="4800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2960" y="4800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05040" y="3657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619240" y="25146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b5249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1:07:05Z</dcterms:created>
  <dc:creator/>
  <dc:description/>
  <dc:language>en-US</dc:language>
  <cp:lastModifiedBy>Stefan</cp:lastModifiedBy>
  <cp:lastPrinted>2009-04-22T19:24:48Z</cp:lastPrinted>
  <dcterms:modified xsi:type="dcterms:W3CDTF">2008-06-09T08:18:51Z</dcterms:modified>
  <cp:revision>17</cp:revision>
  <dc:subject/>
  <dc:title>Entwicklung unserer Firma</dc:title>
</cp:coreProperties>
</file>